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98160" y="696960"/>
            <a:ext cx="26146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4507F6-DDCF-469B-89E5-A24ECF64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4AE094-6EB1-4CCC-946B-4B48E80C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198520" y="696960"/>
            <a:ext cx="261468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E48936-1E7F-41C0-914E-742D106C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2198520" y="696960"/>
            <a:ext cx="26146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32E-9DBB-4CB2-9310-540F5EF6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5E7-590E-427B-B3F7-357DBCE1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651-9E59-43D2-B2E4-A4179DD3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DE6-149E-4D2D-BFF5-CA7CF85E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1A8-0CD3-4041-A2DD-E1B39777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D8C-B68E-4110-A7DA-850707A3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3C2-E2CA-4BC8-BF0A-CD80C75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881-9FB0-4DD0-A49C-A5B5A7FC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880-B655-4EE2-A635-D51BE070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9E9-CA6A-4531-BFF5-A331B2D0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5B5-44CD-4FFB-A7CA-D832C7D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F2D-5ADF-459E-8EBC-0B8B88F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D4EE-BDD2-47D9-87C6-6C10DB95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3886200" y="228600"/>
            <a:ext cx="2666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r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533520" y="45720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ind Someone Who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12"/>
          <p:cNvSpPr/>
          <p:nvPr/>
        </p:nvSpPr>
        <p:spPr>
          <a:xfrm rot="21004200">
            <a:off x="456840" y="1908000"/>
            <a:ext cx="2743200" cy="17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ens should aim for how many minutes of physical activity every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3581280" y="1981080"/>
            <a:ext cx="2971800" cy="2971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9880" y="2666880"/>
            <a:ext cx="2438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type of exercise includes all rhythmic activities that use large muscle groups for an extended period of 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733920" y="6095880"/>
            <a:ext cx="274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uild cardiovascular fitness perform aerobic exercise at least how of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 rot="21412200">
            <a:off x="3184560" y="5182920"/>
            <a:ext cx="3809880" cy="3429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 rot="441000">
            <a:off x="429120" y="6414480"/>
            <a:ext cx="2743200" cy="234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3 stages of a work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762120" y="4114800"/>
            <a:ext cx="236196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2 basic categories of physical exercise and activiti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2"/>
          <p:cNvSpPr/>
          <p:nvPr/>
        </p:nvSpPr>
        <p:spPr>
          <a:xfrm>
            <a:off x="304920" y="3886200"/>
            <a:ext cx="33526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685800" y="457200"/>
            <a:ext cx="2438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exercise includes all rhythmic activities that use large muscle groups for an extended period of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28600" y="304920"/>
            <a:ext cx="3505320" cy="2743200"/>
          </a:xfrm>
          <a:prstGeom prst="hexagon">
            <a:avLst>
              <a:gd name="adj" fmla="val 319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 rot="21300000">
            <a:off x="3847680" y="983880"/>
            <a:ext cx="2743200" cy="13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ens should aim for how many minutes of physical activity every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862800">
            <a:off x="3848400" y="3058920"/>
            <a:ext cx="27432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diorespiratory endurance, muscular strength, muscular endurance, flexibility and body composition are all 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 rot="1431000">
            <a:off x="3581280" y="2895480"/>
            <a:ext cx="327672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114800" y="5410080"/>
            <a:ext cx="220968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2 of the emotional/mental benefits of being physically f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3962520" y="5257800"/>
            <a:ext cx="24382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52400" y="4394160"/>
            <a:ext cx="274320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es FITT stand f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 rot="343800">
            <a:off x="-160200" y="2833560"/>
            <a:ext cx="4568760" cy="494208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 rot="1254000">
            <a:off x="880560" y="7569360"/>
            <a:ext cx="2743200" cy="116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test would you use to measure flexibil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19:35Z</dcterms:created>
  <dc:creator> Eric</dc:creator>
  <dc:description/>
  <dc:language>en-US</dc:language>
  <cp:lastModifiedBy>LHerring</cp:lastModifiedBy>
  <dcterms:modified xsi:type="dcterms:W3CDTF">2012-06-28T17:38:01Z</dcterms:modified>
  <cp:revision>15</cp:revision>
  <dc:subject/>
  <dc:title>Slide 1</dc:title>
</cp:coreProperties>
</file>